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1E3-05BA-4CB6-BB20-809713BC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B8F-E9BE-468D-8A83-A2C4437D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61144-7694-41FF-B6B6-8BAAFFF8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280CF-29C4-4758-9E43-76DD1526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C9E52-09C6-4713-9D22-9A24FC62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4B57F-B645-4031-882F-E26859B3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832FF-DFAA-4BB9-9AEF-BC4ABA9B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A44F6-535F-42E4-9BFA-65676A68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59D0A-2C4C-4D7B-AA78-A13427BE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CCE3F-1DAD-43BA-9998-2C9F8406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110F5-2985-4655-8174-8FB8DFA4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C999A-F181-47B2-9C01-84163CFF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82C-478F-4256-B74B-AE6AA45C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14C3D-9900-4643-882F-C03AFE68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3EDD3-F743-434A-921B-BE68C1BB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FF424-36D5-45CF-B731-46310063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BD262-D964-4DE0-9F3A-A6A1BFE0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1B10E-9A91-441D-83CD-305B2012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1782F-3DD7-49EE-8559-B7328320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FE343-167F-4615-8C81-779E045F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381C0-9D70-4031-85E7-34956F7D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38196-98C8-492E-A95B-42FD18A3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D2E90-47A4-46AB-A566-2B3B9E43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F735-C3A5-471F-83E9-4A8BDECC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C946E-A528-40E9-8632-C7A1F48C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FAB01-F3DE-4914-9885-3EBA4281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BB52A-1AD5-4A8F-B919-2E2394A3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D897D-59FA-4ABE-8995-D1011B2C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3D685-3320-4679-A52B-CF2F2D9D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9D038-21E3-44FC-BC74-352D8313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C9094-F4F8-4237-A4AF-1D96EDC0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16289-F794-4D44-80E2-28D75128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6641F-CB6D-4B30-8520-580CE4CF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75812-293C-4E23-ADD4-0521F631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B8F5-E237-43A1-903D-3F729512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3D38D-131C-419E-BAAD-719AA2D3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C085E-FB97-44AE-90DC-6EDFA735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188E3-05EE-4862-A9CB-043FF32C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52B9D-CA20-41B4-8B6C-900F3267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38BAC-6896-4DE8-AE7D-83FC31B4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97B20-E939-4868-8E74-9E69893A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CCEB1-DABD-41C1-8F45-F1338BA1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76EEB-AEEC-4737-9183-A31DAF5A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49A52-B411-47FF-9CCD-EA109732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064ED-AB85-4F9D-88E3-495EE8DD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C68D-48DE-4E65-A3A4-E9A00C29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649E1-38F0-44C6-8893-3F068960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C231A-1249-4BFC-9CE0-5E375919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98ADF-BE1A-4244-A820-743943B7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E60DF-07C2-47A5-8670-DEAC77DB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380DA-9DF5-4F1B-858C-5D075EED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38FAF-46CA-4B66-8D26-0F510EFB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27786B-F7E7-41BB-BF5C-206E3137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0A18F-9893-4680-8A5C-6590BAF1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0D46A-0EEA-4713-A18F-A64F4A69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EF7D45-E9D7-4F4E-BE2C-78F65C91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4D03-5832-4271-AFE4-ED7FF80E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302F4C-8471-4946-8826-84E03EEC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9AF0D0-137F-41C8-AAED-E4A0684C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79509-CB9E-431C-A452-217E0205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D92CB-4BAB-42AE-A81C-63DE7B7C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A76F1-7F64-4293-BA3B-48C418D6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6FE8F-7850-4308-AAE2-3CBA2559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D98FE4-AD61-42BF-B1D7-5FB9B19C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1718A-01C1-4527-9685-87104435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9ECD0C-E51B-437D-8F08-03C01A87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98F9A1-3618-4571-96AD-470ED72A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D212-412F-47C1-BF06-EFB068F4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9E4529-6675-4D3D-A4E8-A83E0468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896EF5-2D92-4392-A170-725A5036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66FDB-9FE5-4DE2-8C68-6378CBD3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F7806E-8968-4622-863B-93B1D02F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CDF243-2C58-4F1E-B8A7-D65EBFD3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A28449-8379-43C3-9162-46A24434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BA9077-210B-4687-9624-AAD24387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F38534-5083-40FE-98F5-6084DCB8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35F7EB-BC78-4440-9927-9518E7AC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D3FF0E-4BE6-49F5-8B25-A648D96E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847C-3866-4FDE-8B85-3E729B8C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B17095-6920-4C2E-8DC7-A1CFB2DE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D1DD5D-C208-4F94-95CC-62C15E37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5DBF0A-7E05-4FBE-93B3-4C731757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2B58D9-D7F8-478B-8853-EA1A8708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3A61D9-9107-4787-BD93-63A31D81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793335-9897-48D2-9E5C-64E36AB4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0C9AFA-B27C-4DBD-B342-D16FA12A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9A49B0-AA68-4296-A0D1-6CA9877F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BDBF92-1681-466E-91AE-53C6BB69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7EF6CF-7278-4030-84CB-913934F8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AABB-7EFF-487E-8891-77B93F29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BF4400-D184-44A4-A12B-866C24E5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8D262A-BAD9-45BB-9274-B73E3979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C6BDC6-8D81-41AB-8A11-EDE8F142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E374FF-FC8E-4FAD-97DB-D8E7CE30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3DE1B0-FD6F-4A77-AF04-0F058F40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879C74-E311-4EE5-AB00-C7FE3669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CC7194-6724-413A-AD81-23D69D8D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9220FA-7A68-44D1-830B-9CDE3037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B61E34-47A4-4F03-8D3B-17C706BC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62AA4B-A04E-4A64-9D47-77569A10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E434-53BA-4428-B769-83995164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1808F6-6816-427B-9E20-0F81BE9A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FC99AB-2AF1-45B1-80B1-6C8ABBDE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E027AB-B280-4630-BE04-548B7BD7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E855F5-12EA-4B6D-B98E-D79B7A04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91AE04-B67A-4DF6-BBF7-340E3031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1F73AD-234F-422F-9B49-1EEE4674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7502A2-C608-45AA-8076-83491206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8257E0-7F62-4DD6-B392-7A40782A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D62A12-4EB6-460D-BC70-516AFA58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29EEAE-4881-439E-A815-6802FB61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DF1B-46EF-4D6A-86C0-2E28DF23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4E47-2574-48C1-BD2D-4B2D286D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B6AA03-C33F-4156-ACB8-A75A5FBA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2473EA-4F02-40E5-BAA3-24BBE5CE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345740-0358-4ECF-A20B-AF6FC0BC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1755A0-1D83-4A70-82DF-BB89FEC8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B60339-CB73-4B56-AD0A-D57D4800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61E3FD-FC31-4BF4-9289-825C478B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3C6C18-D16B-424B-B05C-6A49CC10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537F01-1F0C-45B7-99E2-C62EDB75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2B4BE5-B9EE-4501-8EF8-71E39521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3E1B76-D87E-4BDC-A7DF-4AC7CB17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AC5C-2D79-48FB-A4D1-090D2344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38B07-6B48-420B-9CB9-5BCFDBFA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D6C6DA-AA16-47E6-84B1-0BF7D240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8EFEB1-9CB5-40D8-971E-9EC05037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401844-82F5-4FDD-8F7D-CC21B656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A5F0D3-6DA5-4DB3-81BE-AEDF4DBA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96FA9E-679C-4B75-9FC1-4800971B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37CCF0-8125-40DE-94FD-EE76B2F1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05C39D-DEE7-4725-931B-085F2E5F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B9BAE6-1A63-4D05-A930-0B4D3151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60DE25-D5D0-48A9-8CEC-FB3E6600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CFAB-FCCB-4A74-B1B5-929977B6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49782A-A8BF-46B2-882D-39F9E54A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403C7E-13EA-4D48-AC01-4FF06DB9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6FC290-2F82-4C19-A103-67D783D1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17CF87-ABE6-4318-B5A2-DE2076AD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F28B2E-5D66-4361-B2F0-D82023B7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271B8B-DCE5-49B3-8137-C0698584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B8D04E-9551-4696-8F20-1C0E5228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E74BA9-45D9-435A-9C5E-F8752124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24F1CF-F8A9-4B1F-A398-2C308B92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D7A7F0-6E85-4CD4-879B-0C8D2DB9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2AB1-1FBE-4D3D-9A85-6E0C2121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B1A421-613F-43A6-A328-313CD54A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8DD80B-735E-45B7-A019-C66FF25A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879C13-201D-4BD3-983C-EBA28F91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2BC7E6-092E-4BC1-9093-5327A1C2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182C44-3DE8-48DD-B50D-39C4E06C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7F84B1-3911-4D14-A828-EAE3548D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A98BAD-CBCE-47E1-AD86-E5144832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90EE16-B331-43B1-AD79-5EB96AD1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B5A3F6-711B-4514-80C4-38C93208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89C708-3E03-4E86-959E-3243B694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C464-6F9C-4C96-80CD-D771011C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760C72-E0DC-404C-8861-F5FCC5CA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78F157-2FD8-45B7-8569-B3DCAF4A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B81AAA-7C0F-467D-890B-99552F3D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CDFF05-D663-4541-8089-EF51E51C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26DCF8-68F6-42B0-A83F-F03A416C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0D1342-9FB9-44EE-A24E-ED612755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9810F7-4356-4BF1-9A27-45A8316E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85BE34-0285-4961-A831-948551FC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0BF67E-C8E7-43BF-9C7F-01651F45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26A0FE-998A-4640-9560-3208DEC4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F12E9-4532-47DF-B3E4-2486B1C3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C31B4A-C396-447A-9B28-D389DC57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FBEE9A-8912-4996-AF9F-87533338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BE6290-2133-4B64-9DBC-278973DF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2AAC0-C151-4AD8-BAB2-B4B4C618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2FE8C-4924-469C-9ACA-D3BE0604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7796E-AFA7-4B26-8EA5-F081E308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72920-1D43-4692-BD85-80843C98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E93-FD44-4A63-BF4D-5282A1DC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176DA-3B83-4F7E-97D9-8A7A646E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3B38E-03A2-4525-9E0C-0F306051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EB97C-2714-49EB-B107-34726DD5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28156-02CA-4A84-ABEF-A9FD3B6B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F0E03-53D3-4040-993E-40DFF511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E3F9C-EB5D-4602-A98B-28A72BF7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5A9EB-666D-4053-9326-CDFF7A19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620D3-7A49-42F3-A42C-7B841927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49C8D-66C8-4E7C-8640-5884A5F2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7542A-77DD-4C40-934A-A45B4129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5B0D-BA58-435B-B15B-F225B743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9EC4A-9E18-4E62-86AE-3166260D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7B5EA-52DE-45D2-B3D3-D28A8C16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62D6D-9B71-416E-80C1-F7E2AF0F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1BF11-8B7B-456C-932E-5587307F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CA3FB-50CA-46B2-8B07-CE1C4E4D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13997-FB6A-44BF-AFD5-2942AAEE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674B5-E79D-41B4-81C9-9E4C7199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6F62A-4DAF-4EC6-914C-570FE83B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5FE3F-35FA-4254-AA93-D8EA5F8C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B32C3-676D-4DD8-B4A3-055215FF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C950-DCFE-424B-AA34-51F14833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86351-6010-4563-BF7D-56026B48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C3FED-583C-46EE-BA7A-032ADD13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F1296-DD34-4D50-9C3C-6BFAF36A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56597-417C-4143-B223-317DFB5D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132C7-2F05-4E37-9F96-A9566D57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9C4F1-7898-4D33-9F5B-5FD895C8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C1BEA-0040-41BA-ABEF-2FD4146B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FB16F-6CB4-4832-9DA0-77BB795E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1CA54-834F-4CDE-9692-94593C3C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4988D-0349-48F3-8C6C-58C3238B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0F9-C45A-4A8F-96BF-1100F4ED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32B36-BF94-4AFC-8405-1157DD78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D9220-F994-42ED-B4A3-49514A03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E569E-0D05-4D80-A94D-BDD829DB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8F3D1-611E-4481-A5D1-C65BF84F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8B51B-6131-41A2-B0F3-60861B6A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9752C-D850-412D-B2A0-F8869E7F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BEA40-91D1-4DE8-89CD-67FE76E6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8F414-76AE-4EA2-AA0F-EF268DCD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96573-A366-4F43-B06A-89BD961D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932FE-DA4E-4D08-8C36-95C3DBE6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7791-60F1-4495-A061-7CAE2245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853C2-230F-4676-98A4-926B7056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67CE6-608D-407D-8139-25BC6030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7C284-5A70-4B7D-A4D0-8B3CB551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E6E7A-9919-4B19-8FE7-879D9EF0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1874E-5C17-45FA-B520-426C38BB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013B8-5BB4-4C47-A960-4BB91A09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713F2-FD2A-44E6-9118-38CCD33D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21C96-237A-46FD-BDC8-B9CCA32C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028DE-51FC-4E69-AC5A-B255867C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550B6-0B57-44EB-B55A-8E8491AE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72D-4409-45BE-8DC7-79879F87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44346-B7A8-453B-824F-24E5983E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D5B2D-B8DF-417C-B674-92A6BFBB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5BBB2-601B-417D-907E-7898E8A4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DFF03-7160-41C2-B282-71B5BF1D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42E6E-051B-48B0-9752-B09F6AE0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60EA5-E334-494E-923E-B5D3EDAF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15F13-DA75-44D2-BE63-41CA61D7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4BB1E-3979-4DCB-9FC6-DE9E9773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28955-518D-4D17-B8DB-A9845DE7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15604-4E3C-45AA-BA46-80981E82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17C-CE0F-480A-AB37-12B736EA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03AD8-BB7B-4107-9CD0-B7417230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C3D12-0639-4AF0-B9FF-9E166D0C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068EF-958F-47EA-8B25-3BF31FC0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1CA7D-F155-4DF7-A943-9BA49BB0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FF4D1-A280-4D88-A7DC-7D4E4F95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38C9C-910D-4C75-9B3E-6553BCB4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DA503-98AA-463E-BF87-D8639F41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2A8A5-5C58-4592-961D-1CA3BD88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E94AB-FB01-49AF-9913-5A2D6063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7DC3C-EFBA-446C-83C7-1BF85E41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D4AC-4486-4540-9059-68F2553A08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A8E6-91BD-4508-8474-135DA4CDF5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E36B-50E6-481A-BCAC-D6C8EC5503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0D41-908B-4E97-A826-4BCAFDFEFA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A3DC-6603-4C57-89A1-4173793736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23A2-C19B-40BC-B7AE-150903CFAE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7C32-6162-4BEB-BC99-FE47494101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517B-038F-4685-9EFB-71A01B64DA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045C-82B5-45A1-8E60-BBAB72D5C7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4EDF-32FD-4392-AE8D-5648A485B3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B5C2-AA9D-4B96-B89F-E215784E9E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9BBF-E751-4F1B-83BB-D119F453B1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847C-7737-4167-8A48-14D8F6772D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83F5-2BDB-4167-A147-14285E7C96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8F7B-E89C-45E6-BF11-E2465887DD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817C-02FC-430A-9675-8D07E5ABEE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F2CF-AC9F-4FF6-AD8F-F4E7B552BA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B160-B008-4BE4-B14A-E2D311A10C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032A-07F5-42A5-804C-EC33F10A2C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1336-010D-4E78-8AD2-097B0A4D3A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E66A-4275-42BE-B7F3-137F58B3EC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B722-35C0-4C81-AA6F-F621FD816F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723A-A3FF-417E-9D33-13987C9551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511A-E2D7-46E0-9795-E5AC102350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88A8-824D-48E6-83DF-D004591FE7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E5D4-2E26-4E82-A7D9-B869B64A70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E8EE-951C-4D82-A95E-3A665210DE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CC61-5EAB-45DC-8901-2B00FFC8E1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CE38-02FA-4E8D-938E-8AF03E9486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148C-C103-4F0B-9B29-46C2DFB258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BE1C-FC6B-4733-8ED6-3002FFE6F5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C4A0-500F-40AC-A39D-C6BDAB57DB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1AB7-B9C1-4C0D-B851-1DCBA2B685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1A8C-7465-47BC-9C8C-F918BC0AE1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3568-8650-402C-8342-92B2784B51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7E1E-3428-479A-B90C-08D074A7A2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660B-5A58-4943-9AB7-6622D2BBE2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4A85-2D70-43E5-8838-F8DDCC715D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B1C5-0C7F-46D3-8F87-920C3EA959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FA7F-C167-4B6E-98A7-9806CDFF3C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76320" y="3048120"/>
            <a:ext cx="89913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69633" descr=""/>
          <p:cNvPicPr/>
          <p:nvPr/>
        </p:nvPicPr>
        <p:blipFill>
          <a:blip r:embed="rId1"/>
          <a:stretch/>
        </p:blipFill>
        <p:spPr>
          <a:xfrm>
            <a:off x="1028880" y="1504800"/>
            <a:ext cx="7086600" cy="38484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826920" y="2550960"/>
            <a:ext cx="7561440" cy="8780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971640" y="3500280"/>
            <a:ext cx="7561080" cy="8780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971640" y="4581360"/>
            <a:ext cx="756108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68609" descr=""/>
          <p:cNvPicPr/>
          <p:nvPr/>
        </p:nvPicPr>
        <p:blipFill>
          <a:blip r:embed="rId1"/>
          <a:stretch/>
        </p:blipFill>
        <p:spPr>
          <a:xfrm>
            <a:off x="785880" y="657360"/>
            <a:ext cx="7572240" cy="5543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5400720" cy="476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971640" y="2781360"/>
            <a:ext cx="5400720" cy="476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1042920" y="3357720"/>
            <a:ext cx="5400720" cy="4759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1042920" y="3933720"/>
            <a:ext cx="5400720" cy="476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6"/>
          <a:stretch/>
        </p:blipFill>
        <p:spPr>
          <a:xfrm>
            <a:off x="1116000" y="4508640"/>
            <a:ext cx="5400720" cy="476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7"/>
          <a:stretch/>
        </p:blipFill>
        <p:spPr>
          <a:xfrm>
            <a:off x="1187280" y="5084640"/>
            <a:ext cx="5400720" cy="476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8"/>
          <a:stretch/>
        </p:blipFill>
        <p:spPr>
          <a:xfrm>
            <a:off x="1116000" y="5661000"/>
            <a:ext cx="5400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67585" descr=""/>
          <p:cNvPicPr/>
          <p:nvPr/>
        </p:nvPicPr>
        <p:blipFill>
          <a:blip r:embed="rId1"/>
          <a:stretch/>
        </p:blipFill>
        <p:spPr>
          <a:xfrm>
            <a:off x="771480" y="1776240"/>
            <a:ext cx="7601040" cy="33055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2"/>
          <a:stretch/>
        </p:blipFill>
        <p:spPr>
          <a:xfrm>
            <a:off x="611280" y="2795760"/>
            <a:ext cx="7129440" cy="4759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7129440" cy="4759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4"/>
          <a:stretch/>
        </p:blipFill>
        <p:spPr>
          <a:xfrm>
            <a:off x="684360" y="3948120"/>
            <a:ext cx="7848360" cy="4762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5"/>
          <a:stretch/>
        </p:blipFill>
        <p:spPr>
          <a:xfrm>
            <a:off x="684360" y="4522680"/>
            <a:ext cx="7848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66561" descr=""/>
          <p:cNvPicPr/>
          <p:nvPr/>
        </p:nvPicPr>
        <p:blipFill>
          <a:blip r:embed="rId1"/>
          <a:stretch/>
        </p:blipFill>
        <p:spPr>
          <a:xfrm>
            <a:off x="268200" y="189000"/>
            <a:ext cx="8696520" cy="6153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826920" y="3516480"/>
            <a:ext cx="8066160" cy="9205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611280" y="4508640"/>
            <a:ext cx="8066160" cy="9205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755640" y="5516640"/>
            <a:ext cx="806616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65537" descr=""/>
          <p:cNvPicPr/>
          <p:nvPr/>
        </p:nvPicPr>
        <p:blipFill>
          <a:blip r:embed="rId1"/>
          <a:stretch/>
        </p:blipFill>
        <p:spPr>
          <a:xfrm>
            <a:off x="647640" y="866880"/>
            <a:ext cx="7848720" cy="55148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2"/>
          <a:stretch/>
        </p:blipFill>
        <p:spPr>
          <a:xfrm>
            <a:off x="539640" y="879480"/>
            <a:ext cx="7345440" cy="476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3"/>
          <a:stretch/>
        </p:blipFill>
        <p:spPr>
          <a:xfrm>
            <a:off x="539640" y="1484280"/>
            <a:ext cx="7345440" cy="476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4"/>
          <a:stretch/>
        </p:blipFill>
        <p:spPr>
          <a:xfrm>
            <a:off x="539640" y="2003400"/>
            <a:ext cx="7345440" cy="476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5"/>
          <a:stretch/>
        </p:blipFill>
        <p:spPr>
          <a:xfrm>
            <a:off x="511200" y="2665440"/>
            <a:ext cx="3456000" cy="16272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6"/>
          <a:stretch/>
        </p:blipFill>
        <p:spPr>
          <a:xfrm>
            <a:off x="3995640" y="3184560"/>
            <a:ext cx="4537080" cy="4762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7"/>
          <a:stretch/>
        </p:blipFill>
        <p:spPr>
          <a:xfrm>
            <a:off x="539640" y="4424400"/>
            <a:ext cx="7920000" cy="8762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8"/>
          <a:stretch/>
        </p:blipFill>
        <p:spPr>
          <a:xfrm>
            <a:off x="539640" y="5445000"/>
            <a:ext cx="792000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组合 64515"/>
          <p:cNvGrpSpPr/>
          <p:nvPr/>
        </p:nvGrpSpPr>
        <p:grpSpPr>
          <a:xfrm>
            <a:off x="179280" y="1341360"/>
            <a:ext cx="8624880" cy="3952800"/>
            <a:chOff x="179280" y="1341360"/>
            <a:chExt cx="8624880" cy="3952800"/>
          </a:xfrm>
        </p:grpSpPr>
        <p:pic>
          <p:nvPicPr>
            <p:cNvPr id="1079" name="图片 64513" descr=""/>
            <p:cNvPicPr/>
            <p:nvPr/>
          </p:nvPicPr>
          <p:blipFill>
            <a:blip r:embed="rId1"/>
            <a:stretch/>
          </p:blipFill>
          <p:spPr>
            <a:xfrm>
              <a:off x="179280" y="1341360"/>
              <a:ext cx="8620200" cy="16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图片 64514" descr=""/>
            <p:cNvPicPr/>
            <p:nvPr/>
          </p:nvPicPr>
          <p:blipFill>
            <a:blip r:embed="rId2"/>
            <a:stretch/>
          </p:blipFill>
          <p:spPr>
            <a:xfrm>
              <a:off x="784080" y="3112920"/>
              <a:ext cx="8020080" cy="218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图片 63489" descr=""/>
          <p:cNvPicPr/>
          <p:nvPr/>
        </p:nvPicPr>
        <p:blipFill>
          <a:blip r:embed="rId1"/>
          <a:stretch/>
        </p:blipFill>
        <p:spPr>
          <a:xfrm>
            <a:off x="528480" y="1490760"/>
            <a:ext cx="8087040" cy="38764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2"/>
          <a:stretch/>
        </p:blipFill>
        <p:spPr>
          <a:xfrm>
            <a:off x="250920" y="1512720"/>
            <a:ext cx="8353440" cy="4762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3"/>
          <a:stretch/>
        </p:blipFill>
        <p:spPr>
          <a:xfrm>
            <a:off x="539640" y="2075040"/>
            <a:ext cx="8353440" cy="4759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4"/>
          <a:stretch/>
        </p:blipFill>
        <p:spPr>
          <a:xfrm>
            <a:off x="539640" y="2708280"/>
            <a:ext cx="5112000" cy="7920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5"/>
          <a:stretch/>
        </p:blipFill>
        <p:spPr>
          <a:xfrm>
            <a:off x="5651640" y="2881440"/>
            <a:ext cx="3168360" cy="4762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6"/>
          <a:stretch/>
        </p:blipFill>
        <p:spPr>
          <a:xfrm>
            <a:off x="1000080" y="3645000"/>
            <a:ext cx="1224000" cy="4762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7"/>
          <a:stretch/>
        </p:blipFill>
        <p:spPr>
          <a:xfrm>
            <a:off x="2254320" y="3645000"/>
            <a:ext cx="5773680" cy="4762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8"/>
          <a:stretch/>
        </p:blipFill>
        <p:spPr>
          <a:xfrm>
            <a:off x="826920" y="4221000"/>
            <a:ext cx="5774040" cy="4762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9"/>
          <a:stretch/>
        </p:blipFill>
        <p:spPr>
          <a:xfrm>
            <a:off x="826920" y="4797360"/>
            <a:ext cx="75614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图片 62465" descr=""/>
          <p:cNvPicPr/>
          <p:nvPr/>
        </p:nvPicPr>
        <p:blipFill>
          <a:blip r:embed="rId1"/>
          <a:stretch/>
        </p:blipFill>
        <p:spPr>
          <a:xfrm>
            <a:off x="262080" y="123840"/>
            <a:ext cx="861984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图片 61441" descr=""/>
          <p:cNvPicPr/>
          <p:nvPr/>
        </p:nvPicPr>
        <p:blipFill>
          <a:blip r:embed="rId1"/>
          <a:stretch/>
        </p:blipFill>
        <p:spPr>
          <a:xfrm>
            <a:off x="576360" y="731880"/>
            <a:ext cx="7991280" cy="601020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2"/>
          <a:stretch/>
        </p:blipFill>
        <p:spPr>
          <a:xfrm>
            <a:off x="395280" y="720720"/>
            <a:ext cx="8353440" cy="47628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3"/>
          <a:stretch/>
        </p:blipFill>
        <p:spPr>
          <a:xfrm>
            <a:off x="324000" y="1355760"/>
            <a:ext cx="8353440" cy="84924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4"/>
          <a:stretch/>
        </p:blipFill>
        <p:spPr>
          <a:xfrm>
            <a:off x="0" y="2305080"/>
            <a:ext cx="5076720" cy="12682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5"/>
          <a:stretch/>
        </p:blipFill>
        <p:spPr>
          <a:xfrm>
            <a:off x="5076720" y="2521080"/>
            <a:ext cx="2087640" cy="47628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6"/>
          <a:stretch/>
        </p:blipFill>
        <p:spPr>
          <a:xfrm>
            <a:off x="7236000" y="2506680"/>
            <a:ext cx="1908000" cy="47628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7"/>
          <a:stretch/>
        </p:blipFill>
        <p:spPr>
          <a:xfrm>
            <a:off x="324000" y="3919680"/>
            <a:ext cx="6840360" cy="47628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8"/>
          <a:stretch/>
        </p:blipFill>
        <p:spPr>
          <a:xfrm>
            <a:off x="7221600" y="3789360"/>
            <a:ext cx="1908000" cy="79200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9"/>
          <a:stretch/>
        </p:blipFill>
        <p:spPr>
          <a:xfrm>
            <a:off x="395280" y="4738680"/>
            <a:ext cx="3456000" cy="79200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10"/>
          <a:stretch/>
        </p:blipFill>
        <p:spPr>
          <a:xfrm>
            <a:off x="324000" y="5661000"/>
            <a:ext cx="8353440" cy="47628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11"/>
          <a:stretch/>
        </p:blipFill>
        <p:spPr>
          <a:xfrm>
            <a:off x="250920" y="6310440"/>
            <a:ext cx="83534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图片 70657" descr=""/>
          <p:cNvPicPr/>
          <p:nvPr/>
        </p:nvPicPr>
        <p:blipFill>
          <a:blip r:embed="rId1"/>
          <a:stretch/>
        </p:blipFill>
        <p:spPr>
          <a:xfrm>
            <a:off x="514440" y="2076480"/>
            <a:ext cx="8115120" cy="270504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2"/>
          <a:stretch/>
        </p:blipFill>
        <p:spPr>
          <a:xfrm>
            <a:off x="539640" y="2089080"/>
            <a:ext cx="8136000" cy="47628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3"/>
          <a:stretch/>
        </p:blipFill>
        <p:spPr>
          <a:xfrm>
            <a:off x="468360" y="2708280"/>
            <a:ext cx="2519280" cy="79200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4"/>
          <a:stretch/>
        </p:blipFill>
        <p:spPr>
          <a:xfrm>
            <a:off x="2987640" y="2708280"/>
            <a:ext cx="5688000" cy="79200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5"/>
          <a:stretch/>
        </p:blipFill>
        <p:spPr>
          <a:xfrm>
            <a:off x="250920" y="3645000"/>
            <a:ext cx="1512720" cy="47628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6"/>
          <a:stretch/>
        </p:blipFill>
        <p:spPr>
          <a:xfrm>
            <a:off x="1763640" y="3659040"/>
            <a:ext cx="3745080" cy="47628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7"/>
          <a:stretch/>
        </p:blipFill>
        <p:spPr>
          <a:xfrm>
            <a:off x="324000" y="4235400"/>
            <a:ext cx="5976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00160" y="781200"/>
            <a:ext cx="8743680" cy="52956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7956720" y="2349360"/>
            <a:ext cx="576000" cy="4762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7956720" y="4221000"/>
            <a:ext cx="576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59410" descr=""/>
          <p:cNvPicPr/>
          <p:nvPr/>
        </p:nvPicPr>
        <p:blipFill>
          <a:blip r:embed="rId1"/>
          <a:stretch/>
        </p:blipFill>
        <p:spPr>
          <a:xfrm>
            <a:off x="247680" y="1095480"/>
            <a:ext cx="8648640" cy="46670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8101080" y="1413000"/>
            <a:ext cx="576360" cy="476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8028000" y="3659040"/>
            <a:ext cx="576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58373" descr=""/>
          <p:cNvPicPr/>
          <p:nvPr/>
        </p:nvPicPr>
        <p:blipFill>
          <a:blip r:embed="rId1"/>
          <a:stretch/>
        </p:blipFill>
        <p:spPr>
          <a:xfrm>
            <a:off x="219240" y="595440"/>
            <a:ext cx="8705520" cy="5667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7956720" y="4610160"/>
            <a:ext cx="576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57352" descr=""/>
          <p:cNvPicPr/>
          <p:nvPr/>
        </p:nvPicPr>
        <p:blipFill>
          <a:blip r:embed="rId1"/>
          <a:stretch/>
        </p:blipFill>
        <p:spPr>
          <a:xfrm>
            <a:off x="252360" y="1085760"/>
            <a:ext cx="8639280" cy="4686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8028000" y="1628640"/>
            <a:ext cx="576360" cy="476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7956720" y="3573360"/>
            <a:ext cx="576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组合 56326"/>
          <p:cNvGrpSpPr/>
          <p:nvPr/>
        </p:nvGrpSpPr>
        <p:grpSpPr>
          <a:xfrm>
            <a:off x="324000" y="71280"/>
            <a:ext cx="7993080" cy="6611760"/>
            <a:chOff x="324000" y="71280"/>
            <a:chExt cx="7993080" cy="6611760"/>
          </a:xfrm>
        </p:grpSpPr>
        <p:pic>
          <p:nvPicPr>
            <p:cNvPr id="1035" name="图片 56324" descr=""/>
            <p:cNvPicPr/>
            <p:nvPr/>
          </p:nvPicPr>
          <p:blipFill>
            <a:blip r:embed="rId1"/>
            <a:stretch/>
          </p:blipFill>
          <p:spPr>
            <a:xfrm>
              <a:off x="324000" y="71280"/>
              <a:ext cx="7993080" cy="25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图片 56325" descr=""/>
            <p:cNvPicPr/>
            <p:nvPr/>
          </p:nvPicPr>
          <p:blipFill>
            <a:blip r:embed="rId2"/>
            <a:stretch/>
          </p:blipFill>
          <p:spPr>
            <a:xfrm>
              <a:off x="658800" y="2647800"/>
              <a:ext cx="7621200" cy="403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7451640" y="2637000"/>
            <a:ext cx="57636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55300" descr=""/>
          <p:cNvPicPr/>
          <p:nvPr/>
        </p:nvPicPr>
        <p:blipFill>
          <a:blip r:embed="rId1"/>
          <a:stretch/>
        </p:blipFill>
        <p:spPr>
          <a:xfrm>
            <a:off x="219240" y="701640"/>
            <a:ext cx="8705520" cy="58960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3419640" y="2190600"/>
            <a:ext cx="576000" cy="9367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1692360" y="5573880"/>
            <a:ext cx="187164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54276" descr=""/>
          <p:cNvPicPr/>
          <p:nvPr/>
        </p:nvPicPr>
        <p:blipFill>
          <a:blip r:embed="rId1"/>
          <a:stretch/>
        </p:blipFill>
        <p:spPr>
          <a:xfrm>
            <a:off x="281160" y="914400"/>
            <a:ext cx="8581680" cy="50292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5133960" y="907920"/>
            <a:ext cx="576360" cy="8654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6588000" y="1859040"/>
            <a:ext cx="576360" cy="8650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7596360" y="2651040"/>
            <a:ext cx="1296720" cy="8654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900000" y="3846600"/>
            <a:ext cx="935280" cy="476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5076720" y="5416560"/>
            <a:ext cx="2448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52231" descr=""/>
          <p:cNvPicPr/>
          <p:nvPr/>
        </p:nvPicPr>
        <p:blipFill>
          <a:blip r:embed="rId1"/>
          <a:stretch/>
        </p:blipFill>
        <p:spPr>
          <a:xfrm>
            <a:off x="766800" y="1990800"/>
            <a:ext cx="7610400" cy="28764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1116000" y="4206960"/>
            <a:ext cx="7128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10:20:4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